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EB83-C0C4-4E16-9FE1-2F56ACD43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D124-DEBA-45CE-87EA-3884B7E3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F77B-2110-43E9-B6E2-771B5A9C0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3534-7BE8-43B9-B204-1E34CC47A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4075-709D-4B5D-9CD1-3FC1675E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AA2B-4AB2-4052-8B1F-007D2EDE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36270-2915-492E-8FE0-7D0CDAEC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B6B1-155E-4912-A0EA-394F4261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D6B2-9865-4836-A5A0-7290CC46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2C8C-5798-471A-BC3A-11E3F496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44D1-2BA4-4E3C-A738-E438C7F8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4411-9F55-4657-BCC6-A4C2DDF5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A4D3-44F2-4814-8000-4955B573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DE1F-D41C-4903-B9A5-43518BAA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BD7B-1B4A-4ECB-8990-97F443FA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FD35-8140-42B4-A2F0-E9455F93F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39EA-99C5-45C9-A5BC-BEA939AEA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149F-A281-468F-A3CF-C0C4DD1B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1664-0554-4747-8715-E7CDB4FC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A213-538F-4C6A-A9BF-26308E97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4884-E57F-4612-8A63-E1403260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F8C8-A571-4620-B9CF-405F5DF9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3F58-354B-46CC-941F-2D7E7C82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4C6D-167D-4B1A-8650-E03355EE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CE3D-5655-4ADE-BC9E-1722349C58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87E9-ADB1-4946-BB25-4A7B498C5F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0773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Me llamo __________           Clase 702</a:t>
            </a:r>
            <a:br>
              <a:rPr sz="3200"/>
            </a:b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La fecha es el 13 de marzo del 2017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94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20443"/>
                </a:solidFill>
                <a:latin typeface="Arial"/>
              </a:rPr>
              <a:t>Propósito # 49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A que hora empiezas las cla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b050"/>
                </a:solidFill>
                <a:latin typeface="Arial"/>
              </a:rPr>
              <a:t>L.O: to review stem-changing 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20443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PIA y completa con la forma correcta del verbo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e -&gt; ie)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jugadores/empezar a jug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dos equipos/ querer gan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os/preferir marcar muchos ta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chez/querer meter un g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portero/querer parar el ba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equipo de Sanchez/no pe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66"/>
                </a:solidFill>
                <a:latin typeface="Arial"/>
              </a:rPr>
              <a:t>Practic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55800"/>
            <a:ext cx="86868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grupos de 3 o 4 alumnos, Copia y respo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Empiezan ustedes a jug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Empiezan ustedes a jugar a las t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ieren ustedes ganar el parti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ieren ustedes marcar un tan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Pierden ustedes a veces o ganan siemp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Prefieren ustedes jugar en el parque o en la cal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e20443"/>
                </a:solidFill>
                <a:latin typeface="Arial"/>
              </a:rPr>
              <a:t>Ejercici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XTBOO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jercicio 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. 17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415800" y="2666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66"/>
                </a:solidFill>
                <a:latin typeface="Arial"/>
              </a:rPr>
              <a:t>Tarea # 49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ontent Placeholder 1"/>
          <p:cNvSpPr/>
          <p:nvPr/>
        </p:nvSpPr>
        <p:spPr>
          <a:xfrm>
            <a:off x="380880" y="39625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KBOO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95080" indent="-29880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ta p. 5.9-5.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GN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Quiz 1: Capitulo 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16:27:39Z</dcterms:created>
  <dc:creator>Helen Zumaeta</dc:creator>
  <dc:description/>
  <dc:language>en-US</dc:language>
  <cp:lastModifiedBy>Helen Zumaeta</cp:lastModifiedBy>
  <cp:lastPrinted>2015-01-29T17:51:10Z</cp:lastPrinted>
  <dcterms:modified xsi:type="dcterms:W3CDTF">2017-03-13T19:43:48Z</dcterms:modified>
  <cp:revision>23</cp:revision>
  <dc:subject/>
  <dc:title>Me llamo __________    Clase 7 IM La fecha es el 2 de diciembre del 2010</dc:title>
</cp:coreProperties>
</file>